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F70A-6D0B-4977-AA36-59714E3BE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67E6-643E-450E-B000-806024E14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302-9954-4A31-8889-CCCEA723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17E-F1C7-4C95-821F-995878A7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D8B-FA76-4AE1-856E-D189426A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FBB-EA29-4C02-A58D-1BC977C3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9903-665B-44BC-8F23-385224EF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0B85-D46C-4721-BCFB-8063E6B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C39F-33DC-433B-87CF-6D61DA46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BEC9-FFC2-4A8C-8677-DB073E5A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B31E-BCB9-40F8-8EA8-15DA1E5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2CE5-3E29-480E-8577-EE92AA44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F3AB-19A5-4700-BF6A-C69DA08C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0BE-42EA-44A8-871A-7B1DD71F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7C1B-28E3-4E9C-B455-9F508E6D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6303-3420-4993-9826-B42E3E76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194A-4F13-49E2-859C-CCE59A9C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2255-AAD6-45C5-907B-C6E1D7D3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0F98-2851-442A-9E9E-893A0631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09B0-9BFC-4E5C-A803-FD039880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BF3B-FC8A-4AFB-BA53-E4F3CE98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B5F2-4510-4220-AF15-D1C39772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F992-D86A-473F-A226-C728713F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A9C5-7A25-4152-841D-CC77418B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DDD-3C33-4431-A66C-4D521309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92FA-9CE0-4236-B9D2-AE22D0E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70C8B-B531-4CDD-BB5A-D0B7670F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C5F6-76C3-4F1C-A02E-BD9AB63B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46C6F-1B11-48ED-9767-0DDEDBD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E5F8-9FBA-40BF-8BB8-BEDF2D53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6D11C-8296-471D-9C75-893DE18B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4FBE0-BE02-4A18-987A-9AC2DB2C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7EFB6-A0CC-43A6-9962-8217BCB6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D25E-C0C5-454C-8DE3-DBBBDAE6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12CF-F7B9-4E75-B485-29618B3B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98D-6D6C-4C46-80B4-B9C5F9DC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DFD56-0718-4F4D-A689-F6BC2845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C59B-C932-4E31-94E1-86E1124F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2DD5-D17A-4A22-A07A-88B12BC0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0DCE-FC22-48D1-B82C-0546299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6B768-24AC-4888-B929-311A45F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4064-E4C5-4340-9FD2-8545DC99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932FB-B3AB-458A-9A3D-84EE307D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1BB05-9CCD-4C80-AE4A-62C2C0C1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7CB7-6DC3-4081-BEA1-CED4964A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6A0-F38B-4E74-8836-712947B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DCE-7439-4305-920D-978B90A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55B-EED0-4C28-B574-9047C042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A0B-D625-4E60-8027-22797C3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95D-C1CB-4B2F-B3FF-A4FBCD6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A99-91A5-4A98-9839-AFB7ADB1B00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1FC8-DA59-449E-B7C2-5FDA6C521E6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3BC6-F364-4972-8BAF-F98F7D091F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D0C0-18AA-4655-8EBD-E68871AB73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231840" y="1365120"/>
            <a:ext cx="844236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MP 230 Fall 2008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By: Maryan Clark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rofessor John Kauch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ambridge Colle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l. Facts about young children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impression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a harder time distinguishing between fantasy and re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not easily discern motives for viol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by observing and imitat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Bushman,200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l. Negative Effects of Media Violenc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. Study conducted by Ronald Slaby, media violence expe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Encourages violent behavior (aggressor eff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Increases fearfulness (victim eff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 Leads to callousness, accepting violence as normal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ystander eff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 Builds a desire to watch more violen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appetite eff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. Article in WebMD News, June 10, 2005 (Brain Activi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 Nonaggressive children had similar patterns of activity in the area of the brain linked to self-control and attention, when exposed to high levels of media violence, as aggressive children who had already been diagnosed with disruptive behavior disord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ll. False messages that media violence send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91320" indent="-3913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olence is often rewarded and seldom has negative consequen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Perpetrators go unpunished in 73% of all violent sce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Violence is everywhe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Young children often assume that violence is the normal cause of dea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Violence is justifi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Aggression by “good guys” is rarely punish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Depicts violence by “good guys” as hero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91320" indent="-391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V. BENEFACTO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. Video Game Indus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Reached nearly $10.5 billion in sales i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005. (BusinessWeek Online, 200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. Television/Movie Indus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Interesting fa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. the majority of all entertain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gramming contains violen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. commercial television for childre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50-60 times more violent than prime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ime programs for adul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V. What can be done to minimize effect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put video game consoles or computers in children’s ro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 limits  ( no television or video games before homework is done).                                                             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mit game playing tim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eck the age game ratings and descriptors on the bo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the shows your children se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0640" indent="-4406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Y AND ENJOY a game with your chil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1080" y="990720"/>
            <a:ext cx="6096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Reference Page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lannery, Daniel J., (2005), Violence and Mental Health in Everyday Life: Prevention and Intervention, Social Science pg 9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tional Institute on Media and the Family, Children and Media Violence Fact 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laby, Ronald, media expert at the Education Development Cen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n Psychiatric Association, Healthy Minds, Healthy Liv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pperman, Jean, (1997),Children’s Advocate Newsmagazi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bMD News, (2005), Media Violence May Affect Children’s Minds, Toxic Lessons, What Do Children Learn From Media Violen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21:46:54Z</dcterms:created>
  <dc:creator>Guest</dc:creator>
  <dc:description/>
  <dc:language>en-US</dc:language>
  <cp:lastModifiedBy> </cp:lastModifiedBy>
  <dcterms:modified xsi:type="dcterms:W3CDTF">2008-12-07T07:57:54Z</dcterms:modified>
  <cp:revision>3</cp:revision>
  <dc:subject/>
  <dc:title>Children and Media Violence</dc:title>
</cp:coreProperties>
</file>